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AC2-D5CE-47B9-9004-6C1DFD6E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89F-2082-4147-8FEE-496EEB6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9C83D-77DD-4031-A2A4-E2669099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D2B56-3DA6-4869-9F27-7A9D1FD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9E7CA-11BB-4FC6-BF09-8CEA394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4EBA0-4DCB-4E96-B31E-8FDE862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8580E-8BC3-440D-95FA-DF1EE57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18D84-EFF2-4C9D-A65E-B701991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E4E92-0968-4982-BE16-57A19F1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602A5-A0E7-4DCB-B5AA-D1CB5BAA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F9A4C-CBE6-4527-87CB-13B539A1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AD9-D35D-4E59-999E-C44D430C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65A-2535-4B08-A275-AAB50FAD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C11-C30D-441E-A2A1-75C75B7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F48-E913-4D59-8CA1-BF4D8CE0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13FF8-B002-4780-8B8A-91895783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B8BE6-9F31-4BAD-8EE9-A76FD57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ADBCD-E243-489D-82C2-7522A79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C83-CFEF-4516-BC94-AA1A8EB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068E3-DE8E-424B-B2F9-8AAE738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62212-D399-46CC-897A-97743758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A010C-2D75-4899-BEA7-009E08C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ACDD1-7862-4CE5-AD30-5802B2C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18804-9DD7-4C1F-8054-668ACD7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B1CCC-5362-4B8F-B36B-297A60F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B9933-B012-4EB6-B458-1710E1F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E2F74-32BE-4AB8-B7AE-2325D037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67287-7A79-44D6-9258-A8D71E4E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A3C2C-496E-4217-9A41-041E881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8E3-BD2A-40AA-B6E8-7BBB548C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D6710-E4CB-44D8-8DC4-1B0EC91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AF792-86FB-4B11-965A-C4FA385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6CE10-F0C3-4C3F-B13A-651927B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34CC8-7776-4867-8056-7492D3B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24464-0987-48A7-8984-2F5CCB7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A0857-6BE0-4C4E-97A2-2E4DFD3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0750B-B601-4FB4-AF94-C003C46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C0C64-225F-400A-B124-CF5F451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D7DDA-8F4B-4B88-B070-DF7E78D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75270-70C6-4819-BA34-CFD07240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80F-141D-45F8-A7DA-9A03576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DAE90-8A26-4338-917C-78C000A3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E590D-D9F5-4115-9BBA-3805C083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1C4545-3CA7-42C7-A3CA-EE7600D1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0AB0A-B7F7-4FB6-AB2A-FB50D66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44D90-B9BA-4710-A155-3B5EF3CF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9946BE-9342-4F2A-823F-CE4C0325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D8B1A-48D1-4378-9D41-16FF8210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67EF7-35E8-43E3-9832-B08FDA0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71E84-BA78-4016-8B02-6902423B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931D0-143B-4630-9154-F412A06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8C0-4D27-48DD-9CF5-0D50311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E3054-C2E4-4B2E-8B47-EE0A28A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1FF8B-9637-41A3-B5BF-9908AC49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7215D-026B-465E-9B98-554D7E7F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1BB038-4539-4973-A975-921EB38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4155D-C8F5-498C-97A2-AB31B28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8267A-9707-46A7-8C15-B12D545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67FC0-CB3F-4220-9962-2080DD73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9F7F9-404B-4714-9F13-EBF7E5F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440F18-53FA-4127-AFD8-2D93705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473CF-6A69-401B-BEE9-D448431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313-FC74-46D2-A4D0-FBF211A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1E5DF-092A-4A50-B29B-4D09013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B2F0A-B77B-43DE-9525-CA2D1F1D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A13DD-EA6A-4A60-AF51-1860557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A1F98C-B9D3-4CD3-B77F-6A7A3768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ED44A-5957-44C6-8232-FD6D55A9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A143A9-1667-43FF-924B-835FBCE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9E4BEE-3874-4B1C-9A47-3DC9B10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5D772-5129-4FCD-B7EE-4DF9463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59F73-F1ED-4B74-A945-F6E6D65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14F29-06F1-4402-825A-AEE52D4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990-3A3E-47A4-8C2E-B797C4B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61D0B-A561-474E-903E-EA2AE1C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9002B-B8B5-488A-BAE2-B16F116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87C19D-9004-4714-AD65-D8D0D7B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3F2ABA-76DA-4E9E-B2DB-AE303BE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D55AC6-62E3-435D-983B-A8F4704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C2F5C-27F8-4939-AFB7-C71D9C73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CE022-36CD-45C4-9667-151ACA65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4A85B-D3C7-4EA4-9D9B-021B1FD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D3006-F36F-4AAA-B307-7C2F229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B9670-B671-4225-A2B5-BB890176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559AA-EED5-4E8B-A232-16886529B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2E429-8B0F-4394-BD15-6CC19EA88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AF906-73C7-403A-BF7B-12F109FD64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F3F57-66D8-4BEA-B0E5-1B1E53213254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EB55D-7C66-4256-B64E-53A57A413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AFBCB-EAFA-4EFA-9677-F41264750D9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51D38-9C1D-4C67-97D6-52B06A562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wo Party Syste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4431"/>
                </a:solidFill>
                <a:latin typeface="Book Antiqua"/>
              </a:rPr>
              <a:t>#APUSH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1992240" y="532296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Learning Go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 Students will be able to describe the typical Whig voter in the 1840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esident Tyl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7" name="Content Placeholder 3" descr="tyler.jpg"/>
          <p:cNvPicPr/>
          <p:nvPr/>
        </p:nvPicPr>
        <p:blipFill>
          <a:blip r:embed="rId1"/>
          <a:srcRect l="-18226" t="0" r="-18226" b="0"/>
          <a:stretch/>
        </p:blipFill>
        <p:spPr>
          <a:xfrm>
            <a:off x="765000" y="2070000"/>
            <a:ext cx="76122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mework for Tonigh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gin Preparing for the Exam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ke sure you are solid on the following topic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on m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oils Syst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Party Syst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rrupt Bargai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enry Cla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acksonian Democra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lection of 1824, 1828, 1836, 1840, 1844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Party Syste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ra of Good Feelings Ends w/ Return to 2 Par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led by Henry Clay (Hamiltonian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ocrats led by Andrew Jackson (Jeffersonian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tical Challeng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Westward Expansion / Manifest Destin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Industrial Economy / Industrial Revolu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o Voted for Who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65000" y="1936800"/>
          <a:ext cx="7612200" cy="4705200"/>
        </p:xfrm>
        <a:graphic>
          <a:graphicData uri="http://schemas.openxmlformats.org/drawingml/2006/table">
            <a:tbl>
              <a:tblPr/>
              <a:tblGrid>
                <a:gridCol w="3859560"/>
                <a:gridCol w="375264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Favore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 local rule, limited government, free trade, equal economic opportunity (whites only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Oppose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 monopolies, national bank, high tariffs, high land p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Favored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Clay’s America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</a:rPr>
                        <a:t>Opposed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immorality, vice, crime (blamed on immigra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000"/>
                    </a:solidFill>
                  </a:tcPr>
                </a:tc>
              </a:tr>
              <a:tr h="21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o voted Democr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Southerners, westerners, small farmers, urban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Who voted Whi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New Englander’s and folks in mid-Atlantic &amp; upper-Middle-Western states; Protestants from England; middle class urban professsio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lection of 183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J nominated Martin Van Buren (who oversaw Trail of Tear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nominated THREE candidates from 3 different reg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? Whigs hoped no one would win required votes and it would go to the H or Reps (where each state had 1 vot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rategy failed, MVB is the new PO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77" name="Content Placeholder 3" descr="ElectoralCollege1836-Large.png"/>
          <p:cNvPicPr/>
          <p:nvPr/>
        </p:nvPicPr>
        <p:blipFill>
          <a:blip r:embed="rId1"/>
          <a:srcRect l="-16548" t="0" r="-16548" b="0"/>
          <a:stretch/>
        </p:blipFill>
        <p:spPr>
          <a:xfrm>
            <a:off x="0" y="293760"/>
            <a:ext cx="90043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anic of 183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nks closed in rapid succession, Unemployment rose, banks called in loans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? AJ’s opposition to Ban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lamed Democr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VB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pposed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intervention in the Panic, JUST LIKE Pres. Herbert Hoover in the Great Depression. It cost BOTH men the next 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VB and HH opposite of Barack Oba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0320" y="79200"/>
            <a:ext cx="8246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ebriated Campaign of 184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5000" y="2069640"/>
            <a:ext cx="80265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looked poised to win the 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d a solid candidate in William Henry Tippecanoe Harrison (war hero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led “Log Cabin Campaign” and “Hard Cider” Campaig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 Party passed out WHH’s favorite drink to voters / also used image of log cabin to symbolize WHH’s humble orig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gs ripped MVB as an aristocrat who liked fine wi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lection of 184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3" name="Content Placeholder 3" descr="1840 Election.jpg"/>
          <p:cNvPicPr/>
          <p:nvPr/>
        </p:nvPicPr>
        <p:blipFill>
          <a:blip r:embed="rId1"/>
          <a:srcRect l="-17937" t="0" r="-17937" b="0"/>
          <a:stretch/>
        </p:blipFill>
        <p:spPr>
          <a:xfrm>
            <a:off x="765000" y="2070000"/>
            <a:ext cx="76122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Short Lived Succes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H died less than a month after taking o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hn Tyler becomes first VP to succeed Pres. (dubbed “His Accidency”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yler was the anti-Whig (lo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vetoed Whig national bank bills, favored expansionism and Democratic posi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2:55:00Z</dcterms:created>
  <dc:creator>Mark Scacewater</dc:creator>
  <dc:description/>
  <dc:language>en-US</dc:language>
  <cp:lastModifiedBy>Mark Scacewater</cp:lastModifiedBy>
  <dcterms:modified xsi:type="dcterms:W3CDTF">2012-12-03T03:12:17Z</dcterms:modified>
  <cp:revision>10</cp:revision>
  <dc:subject/>
  <dc:title>Two Party System</dc:title>
</cp:coreProperties>
</file>